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3.png" ContentType="image/png"/>
  <Override PartName="/ppt/media/image37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10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39.png" ContentType="image/png"/>
  <Override PartName="/ppt/media/image38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AD77-C902-40B2-8EE5-9520C8FA54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F132-5CC1-4209-941E-3BA5A8B53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B671-0D40-4632-B27D-239004218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181A-144A-46C0-97CA-9B46C0AFD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8A86-33AF-4EE7-BF96-7FE02C5080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C496-CF54-41AB-A198-60ACF705F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FF0-29C3-4C73-8B30-3A62CB58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EDA-7CC4-473E-B83D-ED148DB2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EC36-051A-4BFD-BD15-6D8D1CA6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8E4-ADAB-43A4-A9EE-28B886F6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378D-08F1-43D4-A28E-3BC9030B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BB89-FA36-4C4E-B42E-DAFA0427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AE32-9E53-4A88-A905-20F0463E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78F0-28C6-4E20-A653-07B53855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72B9-D763-443E-805F-599F7E91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E3A4-D965-4DAE-9701-7C15C774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0FDA-0105-425D-B5B4-CBB2EB8B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48FA-72D8-442B-BEAA-26B96886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E94E-8C5F-4CAD-9BFA-E11CE087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0AF5-0154-4A85-BA15-6A8FC9D6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10E7-BBFE-400D-9EDC-AFDBFC3E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D4F1-BF1F-410F-9D18-AF871DC8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070C-10C8-48DC-9E03-444D0E7D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F99EB-74A1-4492-9A88-7D43CE13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8C977-C78D-4B4D-A046-5035C412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BCF52-B971-4A59-AAF1-718E3F5C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8B7EE-D835-4965-820A-83A5139F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8DFEE-10F6-4AFB-9AA9-20384950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A45-C241-4160-A3E6-6E1EBE01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33848-88E9-4924-AC46-B7D328C3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5B662-B1DD-4F49-BC87-2E076DB8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7C1B7-AEE1-4BBA-97AD-6E63BC67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2756D-EDFD-4604-A85E-9561B911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43BA-BE33-45E6-946A-B7B04987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C4D87-5526-4FCE-B6E3-043B5A84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ADF6D-E395-4E20-B632-F45E8856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A6AAD-217F-43BB-9E65-E1969FEB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CB262-1A03-4F9E-8D68-6DF55FDF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CF12A-88D1-4760-8B99-B901077E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39F-4DCC-4B0B-B1F5-F6C13EEC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AA9A2-1B1B-4C7D-B218-BB12B46B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B3C1E-A13F-42AE-8E4F-6F559882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8F89A-41C8-4326-9571-5F98A164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90279-1E9D-4817-8A0E-D94964B2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41115-D488-4FBA-B2C9-1DC3015C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7C8B4-B071-4B9A-AC97-F2493CDA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8CC1B-B372-4C09-A84C-79DFA78F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12975-6BBB-48EB-8E69-B41FE8C5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D83AF-B107-45BE-8099-8180D004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BE92-124E-4FF2-9AB4-EE4A17D6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7D0-58D9-431B-A616-8BD5943E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C56-ADF7-43CB-8EE6-2DB39A31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515-3674-4632-96E6-850F2441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144D-492E-4510-9881-E182A34F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D75B-0C96-467A-AF7C-440367D22056}" type="slidenum">
              <a:rPr b="1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DB16-8547-4AA5-B492-78C2C8AAB3C9}" type="slidenum">
              <a:rPr b="1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DD31-885D-4EA4-A345-10D59F19B265}" type="slidenum">
              <a:rPr b="1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94BD-7404-42AE-BAA4-29431BF05E44}" type="slidenum">
              <a:rPr b="1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08540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hapter 7: Warm-Up 1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s the plasma membrane symmetrical?  Why or why not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at types of substances cross the membrane the fastest? Why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xplain the concept of water potential. (Hint: Refer to Lab 1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Fluid Mosaic Mode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Content Placeholder 3" descr="07_03FluidMosaicModel-L.jpg"/>
          <p:cNvPicPr/>
          <p:nvPr/>
        </p:nvPicPr>
        <p:blipFill>
          <a:blip r:embed="rId1"/>
          <a:stretch/>
        </p:blipFill>
        <p:spPr>
          <a:xfrm>
            <a:off x="1149480" y="2185920"/>
            <a:ext cx="68450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07_05PlasmaMembrane-L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0432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Membrane fluidity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51920" y="1534680"/>
            <a:ext cx="495324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Low temp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phospholipids w/unsaturated tails (kinks prevent close packing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holestero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resists changes b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mit fluidity at high tem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nder close packing at low tem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aptations: bacteria in hot springs (unusual lipids); winter wheat (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unsaturated phospholipid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4" descr="07_08MembraneFluidFactor-L.jpg"/>
          <p:cNvPicPr/>
          <p:nvPr/>
        </p:nvPicPr>
        <p:blipFill>
          <a:blip r:embed="rId1"/>
          <a:stretch/>
        </p:blipFill>
        <p:spPr>
          <a:xfrm>
            <a:off x="5105520" y="1887480"/>
            <a:ext cx="40384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embrane Protei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6348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4617b"/>
                </a:solidFill>
                <a:uFillTx/>
                <a:latin typeface="Constantia"/>
              </a:rPr>
              <a:t>Integral Protei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4720" y="156348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4617b"/>
                </a:solidFill>
                <a:uFillTx/>
                <a:latin typeface="Constantia"/>
              </a:rPr>
              <a:t>Peripheral Protei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2172960"/>
            <a:ext cx="4040280" cy="4608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Embedd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 membra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ed by freeze frac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membrane with hydrophilic heads/tails and hydrophobic midd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44720" y="2172960"/>
            <a:ext cx="4041720" cy="4608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cellular or cytoplasmic sides of membra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 embedd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ld in place by the cytoskeleton or EC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s stronger framewor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31"/>
          <p:cNvSpPr/>
          <p:nvPr/>
        </p:nvSpPr>
        <p:spPr>
          <a:xfrm>
            <a:off x="838080" y="5943600"/>
            <a:ext cx="78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l &amp; Peripheral protei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103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84836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25360" y="762120"/>
            <a:ext cx="8693280" cy="1066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07_09TransmembProtein-L.jpg"/>
          <p:cNvPicPr/>
          <p:nvPr/>
        </p:nvPicPr>
        <p:blipFill>
          <a:blip r:embed="rId2"/>
          <a:stretch/>
        </p:blipFill>
        <p:spPr>
          <a:xfrm>
            <a:off x="2286000" y="1595520"/>
            <a:ext cx="4038480" cy="4981320"/>
          </a:xfrm>
          <a:prstGeom prst="rect">
            <a:avLst/>
          </a:prstGeom>
          <a:ln w="0">
            <a:noFill/>
          </a:ln>
        </p:spPr>
      </p:pic>
      <p:sp>
        <p:nvSpPr>
          <p:cNvPr id="237" name="Right Arrow 8"/>
          <p:cNvSpPr/>
          <p:nvPr/>
        </p:nvSpPr>
        <p:spPr>
          <a:xfrm>
            <a:off x="2590920" y="3657600"/>
            <a:ext cx="244476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ight Arrow 9"/>
          <p:cNvSpPr/>
          <p:nvPr/>
        </p:nvSpPr>
        <p:spPr>
          <a:xfrm rot="12025200">
            <a:off x="4976280" y="2985840"/>
            <a:ext cx="1919520" cy="48564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6900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ight Arrow 10"/>
          <p:cNvSpPr/>
          <p:nvPr/>
        </p:nvSpPr>
        <p:spPr>
          <a:xfrm rot="9754800">
            <a:off x="4981320" y="4576680"/>
            <a:ext cx="1931760" cy="48600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6900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0" y="34290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Hydrophobic interi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6934320" y="350532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009"/>
                </a:solidFill>
                <a:latin typeface="Times New Roman"/>
              </a:rPr>
              <a:t>Hydrophilic end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7_10_MembProteinFunction-L.jpg"/>
          <p:cNvPicPr/>
          <p:nvPr/>
        </p:nvPicPr>
        <p:blipFill>
          <a:blip r:embed="rId1"/>
          <a:stretch/>
        </p:blipFill>
        <p:spPr>
          <a:xfrm>
            <a:off x="2617920" y="274680"/>
            <a:ext cx="6449760" cy="65833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0" y="2209680"/>
            <a:ext cx="266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me functions of membrane protei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bohyd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87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unc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cell-cell recognition; developing organis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lycolipids, glyco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blood transfusions are type-specif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1"/>
          <a:stretch/>
        </p:blipFill>
        <p:spPr>
          <a:xfrm>
            <a:off x="1143000" y="32940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ynthesis and sidedness of membran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Picture 3" descr="07_12MembraneSynthesis-L.jpg"/>
          <p:cNvPicPr/>
          <p:nvPr/>
        </p:nvPicPr>
        <p:blipFill>
          <a:blip r:embed="rId1"/>
          <a:stretch/>
        </p:blipFill>
        <p:spPr>
          <a:xfrm>
            <a:off x="762120" y="990720"/>
            <a:ext cx="747396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lective Permeabil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69009"/>
                </a:solidFill>
                <a:uFillTx/>
                <a:latin typeface="Constantia"/>
              </a:rPr>
              <a:t>Small molecules </a:t>
            </a:r>
            <a:r>
              <a:rPr b="0" lang="en-US" sz="2600" spc="-1" strike="noStrike">
                <a:solidFill>
                  <a:srgbClr val="069009"/>
                </a:solidFill>
                <a:latin typeface="Constantia"/>
              </a:rPr>
              <a:t>(polar or nonpolar) cross easily (hydrocarbons, hydrophobic molecules, CO</a:t>
            </a:r>
            <a:r>
              <a:rPr b="0" lang="en-US" sz="2600" spc="-1" strike="noStrike" baseline="-25000">
                <a:solidFill>
                  <a:srgbClr val="069009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69009"/>
                </a:solidFill>
                <a:latin typeface="Constantia"/>
              </a:rPr>
              <a:t>, O</a:t>
            </a:r>
            <a:r>
              <a:rPr b="0" lang="en-US" sz="2600" spc="-1" strike="noStrike" baseline="-25000">
                <a:solidFill>
                  <a:srgbClr val="069009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69009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Hydrophobic core </a:t>
            </a:r>
            <a:r>
              <a:rPr b="1" i="1" lang="en-US" sz="2600" spc="-1" strike="noStrike">
                <a:solidFill>
                  <a:srgbClr val="c00000"/>
                </a:solidFill>
                <a:latin typeface="Constantia"/>
              </a:rPr>
              <a:t>prevents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 passage of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Constantia"/>
              </a:rPr>
              <a:t>ions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,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Constantia"/>
              </a:rPr>
              <a:t>large polar molecul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00980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hapter 7: Warm-Up 2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at are glycoproteins and glycolipids and what is their function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ow d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hydrophilic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substances cross the cell membrane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y does water move through the bi-layer quickly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ve Trans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53684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ENERGY needed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Diffusion</a:t>
            </a: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2060"/>
                </a:solidFill>
                <a:latin typeface="Constantia"/>
              </a:rPr>
              <a:t>down</a:t>
            </a: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en-US" sz="2600" spc="-1" strike="noStrike" u="sng">
                <a:solidFill>
                  <a:srgbClr val="55a839"/>
                </a:solidFill>
                <a:uFillTx/>
                <a:latin typeface="Constantia"/>
              </a:rPr>
              <a:t>concentration gradient</a:t>
            </a:r>
            <a:r>
              <a:rPr b="0" lang="en-US" sz="2600" spc="-1" strike="noStrike">
                <a:solidFill>
                  <a:srgbClr val="55a839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high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low concentra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hydrocarbons, 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3" descr="07_13aDiffusionMembrane-L.jpg"/>
          <p:cNvPicPr/>
          <p:nvPr/>
        </p:nvPicPr>
        <p:blipFill>
          <a:blip r:embed="rId1"/>
          <a:stretch/>
        </p:blipFill>
        <p:spPr>
          <a:xfrm>
            <a:off x="1447920" y="3583080"/>
            <a:ext cx="640080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Content Placeholder 3" descr="07_13bDiffusionMembrane-L.jpg"/>
          <p:cNvPicPr/>
          <p:nvPr/>
        </p:nvPicPr>
        <p:blipFill>
          <a:blip r:embed="rId1"/>
          <a:stretch/>
        </p:blipFill>
        <p:spPr>
          <a:xfrm>
            <a:off x="457200" y="2111400"/>
            <a:ext cx="82296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Content Placeholder 3" descr="07_14Osmosis-L.jpg"/>
          <p:cNvPicPr/>
          <p:nvPr/>
        </p:nvPicPr>
        <p:blipFill>
          <a:blip r:embed="rId1"/>
          <a:stretch/>
        </p:blipFill>
        <p:spPr>
          <a:xfrm>
            <a:off x="2590920" y="290520"/>
            <a:ext cx="6172200" cy="6289560"/>
          </a:xfrm>
          <a:prstGeom prst="rect">
            <a:avLst/>
          </a:prstGeom>
          <a:ln w="0">
            <a:noFill/>
          </a:ln>
        </p:spPr>
      </p:pic>
      <p:pic>
        <p:nvPicPr>
          <p:cNvPr id="257" name="Title 5" descr=""/>
          <p:cNvPicPr/>
          <p:nvPr/>
        </p:nvPicPr>
        <p:blipFill>
          <a:blip r:embed="rId2"/>
          <a:stretch/>
        </p:blipFill>
        <p:spPr>
          <a:xfrm>
            <a:off x="407880" y="4022640"/>
            <a:ext cx="35118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itle 1" descr=""/>
          <p:cNvPicPr/>
          <p:nvPr/>
        </p:nvPicPr>
        <p:blipFill>
          <a:blip r:embed="rId1"/>
          <a:stretch/>
        </p:blipFill>
        <p:spPr>
          <a:xfrm>
            <a:off x="219240" y="36360"/>
            <a:ext cx="8656560" cy="1390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07_15WaterBalance-L.jpg"/>
          <p:cNvPicPr/>
          <p:nvPr/>
        </p:nvPicPr>
        <p:blipFill>
          <a:blip r:embed="rId2"/>
          <a:stretch/>
        </p:blipFill>
        <p:spPr>
          <a:xfrm>
            <a:off x="685800" y="1384200"/>
            <a:ext cx="79344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smoreg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12800"/>
            <a:ext cx="845820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rol solute &amp; water bal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ontractile vacuo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lge pump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forces out fresh water as it enters by osm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paramecium caudatum – freshwater proti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Picture 5" descr="07_16ContractileVacuole-L.jpg"/>
          <p:cNvPicPr/>
          <p:nvPr/>
        </p:nvPicPr>
        <p:blipFill>
          <a:blip r:embed="rId1"/>
          <a:stretch/>
        </p:blipFill>
        <p:spPr>
          <a:xfrm>
            <a:off x="1219320" y="3503520"/>
            <a:ext cx="6858000" cy="320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07_UN01Summary_C3-L.jpg"/>
          <p:cNvPicPr/>
          <p:nvPr/>
        </p:nvPicPr>
        <p:blipFill>
          <a:blip r:embed="rId1"/>
          <a:stretch/>
        </p:blipFill>
        <p:spPr>
          <a:xfrm>
            <a:off x="4191120" y="2743200"/>
            <a:ext cx="4800600" cy="40402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acilitated Diff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8600" y="1828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Constantia"/>
              </a:rPr>
              <a:t>Transport proteins</a:t>
            </a: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channel or carrier proteins) help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hydrophilic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substance cro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304920" y="2819520"/>
            <a:ext cx="4876560" cy="25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1) Provide hydrophilic channel or (2) loosely bind/carry molecule acros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ions, polar molecules (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, glucose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0773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2060"/>
                </a:solidFill>
                <a:uFillTx/>
                <a:latin typeface="Calibri"/>
              </a:rPr>
              <a:t>Aquaporin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: channel protein that allows passage of H</a:t>
            </a:r>
            <a:r>
              <a:rPr b="0" lang="en-US" sz="3600" spc="-1" strike="noStrike" baseline="-25000">
                <a:solidFill>
                  <a:srgbClr val="04617b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Picture 4" descr="http://www.bionaid.us/aquaporin.jpg"/>
          <p:cNvPicPr/>
          <p:nvPr/>
        </p:nvPicPr>
        <p:blipFill>
          <a:blip r:embed="rId1"/>
          <a:stretch/>
        </p:blipFill>
        <p:spPr>
          <a:xfrm>
            <a:off x="4572000" y="2895480"/>
            <a:ext cx="3686040" cy="3114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http://virtuallaboratory.colorado.edu/BioFun-Support/AllGraphics/Aquaporin%20and%20Water.jpg"/>
          <p:cNvPicPr/>
          <p:nvPr/>
        </p:nvPicPr>
        <p:blipFill>
          <a:blip r:embed="rId2"/>
          <a:stretch/>
        </p:blipFill>
        <p:spPr>
          <a:xfrm>
            <a:off x="1066680" y="2666880"/>
            <a:ext cx="25146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itle 2" descr=""/>
          <p:cNvPicPr/>
          <p:nvPr/>
        </p:nvPicPr>
        <p:blipFill>
          <a:blip r:embed="rId1"/>
          <a:stretch/>
        </p:blipFill>
        <p:spPr>
          <a:xfrm>
            <a:off x="182520" y="1200240"/>
            <a:ext cx="8583480" cy="12081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http://www.prism.gatech.edu/~gh19/b1510/gluctran.gif"/>
          <p:cNvPicPr/>
          <p:nvPr/>
        </p:nvPicPr>
        <p:blipFill>
          <a:blip r:embed="rId2"/>
          <a:stretch/>
        </p:blipFill>
        <p:spPr>
          <a:xfrm>
            <a:off x="609480" y="2590920"/>
            <a:ext cx="76964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ctive Trans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934640"/>
            <a:ext cx="5791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quires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ENERG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AT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 transport substances </a:t>
            </a:r>
            <a:r>
              <a:rPr b="1" i="1" lang="en-US" sz="2600" spc="-1" strike="noStrike">
                <a:solidFill>
                  <a:srgbClr val="002060"/>
                </a:solidFill>
                <a:latin typeface="Constantia"/>
              </a:rPr>
              <a:t>against</a:t>
            </a:r>
            <a:r>
              <a:rPr b="0" lang="en-US" sz="2600" spc="-1" strike="noStrike">
                <a:solidFill>
                  <a:srgbClr val="9900cc"/>
                </a:solidFill>
                <a:latin typeface="Constantia"/>
              </a:rPr>
              <a:t> </a:t>
            </a:r>
            <a:r>
              <a:rPr b="0" lang="en-US" sz="2600" spc="-1" strike="noStrike" u="sng">
                <a:solidFill>
                  <a:srgbClr val="069009"/>
                </a:solidFill>
                <a:uFillTx/>
                <a:latin typeface="Constantia"/>
              </a:rPr>
              <a:t>concentration gradient</a:t>
            </a:r>
            <a:r>
              <a:rPr b="0" lang="en-US" sz="2600" spc="-1" strike="noStrike">
                <a:solidFill>
                  <a:srgbClr val="069009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low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high conc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N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ump, proton pum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4" descr="07_UN02Summary_C4-L.jpg"/>
          <p:cNvPicPr/>
          <p:nvPr/>
        </p:nvPicPr>
        <p:blipFill>
          <a:blip r:embed="rId1"/>
          <a:stretch/>
        </p:blipFill>
        <p:spPr>
          <a:xfrm>
            <a:off x="6400800" y="1600200"/>
            <a:ext cx="221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99"/>
                </a:solidFill>
                <a:uFillTx/>
                <a:latin typeface="Calibri"/>
              </a:rPr>
              <a:t>Electrogenic Pumps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: generate voltage across membran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Na</a:t>
            </a:r>
            <a:r>
              <a:rPr b="1" lang="en-US" sz="2800" spc="-1" strike="noStrike" u="sng" baseline="30000">
                <a:solidFill>
                  <a:srgbClr val="ff0000"/>
                </a:solidFill>
                <a:uFillTx/>
                <a:latin typeface="Constantia"/>
              </a:rPr>
              <a:t>+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/K</a:t>
            </a:r>
            <a:r>
              <a:rPr b="1" lang="en-US" sz="2800" spc="-1" strike="noStrike" u="sng" baseline="30000">
                <a:solidFill>
                  <a:srgbClr val="ff0000"/>
                </a:solidFill>
                <a:uFillTx/>
                <a:latin typeface="Constantia"/>
              </a:rPr>
              <a:t>+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 Pum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97000" y="168084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Proton Pum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2335320"/>
            <a:ext cx="4040280" cy="384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ump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ut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to ce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rve transmi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797000" y="2335320"/>
            <a:ext cx="4041720" cy="384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ush protons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across membra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g. mitochondria (ATP productio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Picture 6" descr="07_18SodiumPotassPump_6-L.jpg"/>
          <p:cNvPicPr/>
          <p:nvPr/>
        </p:nvPicPr>
        <p:blipFill>
          <a:blip r:embed="rId1"/>
          <a:stretch/>
        </p:blipFill>
        <p:spPr>
          <a:xfrm>
            <a:off x="152280" y="3429000"/>
            <a:ext cx="4502160" cy="3271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07_20ProtonPump-L.jpg"/>
          <p:cNvPicPr/>
          <p:nvPr/>
        </p:nvPicPr>
        <p:blipFill>
          <a:blip r:embed="rId2"/>
          <a:stretch/>
        </p:blipFill>
        <p:spPr>
          <a:xfrm>
            <a:off x="5022720" y="4024440"/>
            <a:ext cx="38926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hapter 7: Warm-Up 3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828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plain membrane potential and how it affects the cel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a U-tube, side A has 4 M glucose and 2 M NaCl. Side B has 2M glucose and 6 M NaCl. Initially, side A is ____ to side B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d side B is ____ to side A.  What happens if the membrane is permeable to both solutes?  Only permeable to water and NaCl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Calibri"/>
              </a:rPr>
              <a:t>Cotransport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: membrane protein enables </a:t>
            </a:r>
            <a:r>
              <a:rPr b="0" lang="ja-JP" sz="32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downhill</a:t>
            </a:r>
            <a:r>
              <a:rPr b="0" lang="ja-JP" sz="3200" spc="-1" strike="noStrike">
                <a:solidFill>
                  <a:srgbClr val="04617b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diffusion of one solute to drive </a:t>
            </a:r>
            <a:r>
              <a:rPr b="0" lang="ja-JP" sz="32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phill</a:t>
            </a:r>
            <a:r>
              <a:rPr b="0" lang="ja-JP" sz="3200" spc="-1" strike="noStrike">
                <a:solidFill>
                  <a:srgbClr val="04617b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transport of other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28240" y="1905120"/>
            <a:ext cx="89154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g. sucrose-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cotransporter (sugar-loading in plants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8" descr="07_21Cotransport-L.jpg"/>
          <p:cNvPicPr/>
          <p:nvPr/>
        </p:nvPicPr>
        <p:blipFill>
          <a:blip r:embed="rId1"/>
          <a:stretch/>
        </p:blipFill>
        <p:spPr>
          <a:xfrm>
            <a:off x="1981080" y="2494080"/>
            <a:ext cx="56390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Passive vs. Active Transpor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11276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ttle or no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gh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low concentr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69009"/>
                </a:solidFill>
                <a:latin typeface="Constantia"/>
              </a:rPr>
              <a:t>DOW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e concentration gradi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diffusion, osmosis, facilitated diffusion (w/transport protei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952520" y="1112760"/>
            <a:ext cx="40388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quires Energy (AT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w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high concentr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AGAINS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e concentration gradi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g. pumps, exo/endocyt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88" name="Right Arrow 2"/>
          <p:cNvGrpSpPr/>
          <p:nvPr/>
        </p:nvGrpSpPr>
        <p:grpSpPr>
          <a:xfrm>
            <a:off x="1532520" y="4998960"/>
            <a:ext cx="1692000" cy="1633680"/>
            <a:chOff x="1532520" y="4998960"/>
            <a:chExt cx="1692000" cy="1633680"/>
          </a:xfrm>
        </p:grpSpPr>
        <p:pic>
          <p:nvPicPr>
            <p:cNvPr id="289" name="Right Arrow 2" descr=""/>
            <p:cNvPicPr/>
            <p:nvPr/>
          </p:nvPicPr>
          <p:blipFill>
            <a:blip r:embed="rId1"/>
            <a:stretch/>
          </p:blipFill>
          <p:spPr>
            <a:xfrm>
              <a:off x="1532520" y="4998960"/>
              <a:ext cx="1692000" cy="16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2446800">
              <a:off x="1468080" y="5617800"/>
              <a:ext cx="180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Right Arrow 9"/>
          <p:cNvGrpSpPr/>
          <p:nvPr/>
        </p:nvGrpSpPr>
        <p:grpSpPr>
          <a:xfrm>
            <a:off x="6249600" y="4973760"/>
            <a:ext cx="1585800" cy="1512720"/>
            <a:chOff x="6249600" y="4973760"/>
            <a:chExt cx="1585800" cy="1512720"/>
          </a:xfrm>
        </p:grpSpPr>
        <p:pic>
          <p:nvPicPr>
            <p:cNvPr id="292" name="Right Arrow 9" descr=""/>
            <p:cNvPicPr/>
            <p:nvPr/>
          </p:nvPicPr>
          <p:blipFill>
            <a:blip r:embed="rId2"/>
            <a:stretch/>
          </p:blipFill>
          <p:spPr>
            <a:xfrm>
              <a:off x="6249600" y="4973760"/>
              <a:ext cx="158580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 rot="19144800">
              <a:off x="6205680" y="5546880"/>
              <a:ext cx="1658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07_19PassiveActiveTrans-L.jpg"/>
          <p:cNvPicPr/>
          <p:nvPr/>
        </p:nvPicPr>
        <p:blipFill>
          <a:blip r:embed="rId1"/>
          <a:stretch/>
        </p:blipFill>
        <p:spPr>
          <a:xfrm>
            <a:off x="533520" y="282600"/>
            <a:ext cx="807696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Bulk Transpor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752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ransport of proteins, polysaccharides, large molecu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2" descr="http://4.bp.blogspot.com/_rBYpndaJ_ak/TLZLaM4OCQI/AAAAAAAAARU/8iax7xfb0F4/s1600/Endocytosis+and+Exocytosis.jpg"/>
          <p:cNvPicPr/>
          <p:nvPr/>
        </p:nvPicPr>
        <p:blipFill>
          <a:blip r:embed="rId1"/>
          <a:stretch/>
        </p:blipFill>
        <p:spPr>
          <a:xfrm>
            <a:off x="304920" y="2886120"/>
            <a:ext cx="4667040" cy="32097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5"/>
          <p:cNvSpPr/>
          <p:nvPr/>
        </p:nvSpPr>
        <p:spPr>
          <a:xfrm>
            <a:off x="5029200" y="289548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docyto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in macromolecules, form new vesicl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Box 6"/>
          <p:cNvSpPr/>
          <p:nvPr/>
        </p:nvSpPr>
        <p:spPr>
          <a:xfrm>
            <a:off x="5029200" y="450864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xocyto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sicles fuse with cell membrane, expel cont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" descr="07_22_Endocytosis-L.jpg"/>
          <p:cNvPicPr/>
          <p:nvPr/>
        </p:nvPicPr>
        <p:blipFill>
          <a:blip r:embed="rId1"/>
          <a:stretch/>
        </p:blipFill>
        <p:spPr>
          <a:xfrm>
            <a:off x="990720" y="1787400"/>
            <a:ext cx="7238880" cy="5070600"/>
          </a:xfrm>
          <a:prstGeom prst="rect">
            <a:avLst/>
          </a:prstGeom>
          <a:ln w="0">
            <a:noFill/>
          </a:ln>
        </p:spPr>
      </p:pic>
      <p:pic>
        <p:nvPicPr>
          <p:cNvPr id="301" name="Title 3" descr=""/>
          <p:cNvPicPr/>
          <p:nvPr/>
        </p:nvPicPr>
        <p:blipFill>
          <a:blip r:embed="rId2"/>
          <a:stretch/>
        </p:blipFill>
        <p:spPr>
          <a:xfrm>
            <a:off x="457200" y="73080"/>
            <a:ext cx="8308800" cy="11761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4"/>
          <p:cNvSpPr/>
          <p:nvPr/>
        </p:nvSpPr>
        <p:spPr>
          <a:xfrm>
            <a:off x="152280" y="92232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hagocytosi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 eating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soli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3429000" y="92232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inocytosi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 drinking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flui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5867280" y="4983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ceptor-Mediated Endocytosi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ands bind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fic recep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cell surfa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2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embrane Transpor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pter 7: Warm-Up 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de A in a U tube has 5M sucrose and 3 M glucose. Side B has 2 M sucrose and 1 M glucose.  The membrane is permeable to glucose and water  only. What happens to each side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pter 7: Warm-Up 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de A in a U tube has 3 M sucrose and 1 M glucose. Side B has 1 M sucrose and 3 M glucose.  The membrane is permeable to glucose and water  only. What happens to each side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3" descr=""/>
          <p:cNvPicPr/>
          <p:nvPr/>
        </p:nvPicPr>
        <p:blipFill>
          <a:blip r:embed="rId1"/>
          <a:stretch/>
        </p:blipFill>
        <p:spPr>
          <a:xfrm>
            <a:off x="536400" y="-79200"/>
            <a:ext cx="7851960" cy="1834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160" y="178128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Membrane Structure and Function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Picture 5" descr="07_05PlasmaMembrane-L.jpg"/>
          <p:cNvPicPr/>
          <p:nvPr/>
        </p:nvPicPr>
        <p:blipFill>
          <a:blip r:embed="rId2"/>
          <a:stretch/>
        </p:blipFill>
        <p:spPr>
          <a:xfrm>
            <a:off x="304920" y="2971800"/>
            <a:ext cx="5638680" cy="3627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You Must Know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-407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y membranes are selectively permeabl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68360" indent="-407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role of phospholipids, proteins, and carbohydrates in membran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68360" indent="-407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ow water will move if a cell is placed in an isotonic, hypertonic, or hypotonic solu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68360" indent="-407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ow electrochemical gradients are form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Phospholipid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560" y="1687680"/>
            <a:ext cx="380988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lay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Amphipathi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= hydrophilic head, hydrophobic tai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ydrophobic barrier: keeps hydrophilic molecules o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3" descr="07_02PhospholipidBilayer-L.jpg"/>
          <p:cNvPicPr/>
          <p:nvPr/>
        </p:nvPicPr>
        <p:blipFill>
          <a:blip r:embed="rId1"/>
          <a:stretch/>
        </p:blipFill>
        <p:spPr>
          <a:xfrm>
            <a:off x="4038480" y="1600200"/>
            <a:ext cx="4889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Cell Membrane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asma membrane is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selectively perme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ows some substances to cross more easily than oth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Fluid Mosaic Mod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99"/>
                </a:solidFill>
                <a:uFillTx/>
                <a:latin typeface="Constantia"/>
              </a:rPr>
              <a:t>Flui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membrane held together by weak intera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99"/>
                </a:solidFill>
                <a:uFillTx/>
                <a:latin typeface="Constantia"/>
              </a:rPr>
              <a:t>Mosai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phospholipids, proteins, carb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5T02:10:47Z</dcterms:created>
  <dc:creator>David title</dc:creator>
  <dc:description/>
  <dc:language>en-US</dc:language>
  <cp:lastModifiedBy>Roman-Wensing, Kayla</cp:lastModifiedBy>
  <dcterms:modified xsi:type="dcterms:W3CDTF">2016-09-13T13:51:10Z</dcterms:modified>
  <cp:revision>112</cp:revision>
  <dc:subject/>
  <dc:title>Plants - Reproduction</dc:title>
</cp:coreProperties>
</file>